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18EE-F814-42A5-BBDE-42D88B95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98A8-BFE7-4D1A-B54A-6958E9C9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1609-78DF-469D-B9F3-BE5FD4F53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D251-F984-4652-AF93-CAE63333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E139-8D56-4344-9261-1696E7AF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97FD-B17B-4C99-9F09-1E63D29F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42A4-1933-4559-9A33-09CF7CB4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9BF6-6587-46DF-9D5A-846EB4B6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93A2-299E-47C8-A37E-04923504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7796-55F7-4B53-86AF-35E0295F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1576-5E14-42AF-8F62-00FA9441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37AB-BC23-4A2C-B3E5-9C984846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A35A-8439-4947-868C-9108A1859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Thomas_Hobbes_(portrait)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657600" y="1143000"/>
            <a:ext cx="1847880" cy="2467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askerville Old Face"/>
              </a:rPr>
              <a:t>The Enlighten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638680" y="3722760"/>
            <a:ext cx="3505320" cy="3135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1143000"/>
            <a:ext cx="3809880" cy="3038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057400" y="3695760"/>
            <a:ext cx="2457360" cy="3162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5410080" y="1066680"/>
            <a:ext cx="373392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askerville Old Face"/>
              </a:rPr>
              <a:t>The Enlighten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1700’s many Europeans believed that reason could be used to make government and society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ed in France where thinkers wrote and discussed their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archs who ruled by “the will of god” tried to model their countries on Enlighte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912000" y="4191120"/>
            <a:ext cx="2232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w applied to everyone and could be understood with r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 to the Kings &amp; Queens of the time, started fair gover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ed legal rights to citizens (moder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rchists agree but use it to disband all establish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omas Hob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ote on English Government 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d during English civil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id “absolute monarchy is best form of governm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cked when king exec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id humans naturally selfish &amp; vio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could not be trusted to make decisions for themsel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15000" y="0"/>
            <a:ext cx="25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Loc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not agree with Hob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law meant citizen rights &amp; government answerable to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life bill of rights made by William &amp; M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trial by jury and no cruel punis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birth people have rights. Like right to life, liberty and to own proper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contract: Rulers take rights from people, people have right to revo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959520" y="0"/>
            <a:ext cx="2184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on Montesqui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id England’s government was best because of separation of po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parts of government. What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islative: makes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ive: enforces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icial: interprets laws, and judge when br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separation government could not get big enough to over power peoples righ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Philosoph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 was major center of enlighte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people leading this movement were called philosophe (philosoph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writers, teachers, journalists and observers of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nt against superstitions &amp; unfounded bel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nt against thy church who did not like the science and thinking at th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ieved in individual rights and lib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t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name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nçois-Marie Arou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greatest thinker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lighte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ote: novels, plays, letters &amp; e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liked catholic church, he accused them of abuse of po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supporting one church, people should cho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ed deism: a religion based on reason, god made world but let it go after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643800" y="0"/>
            <a:ext cx="2500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3T13:51:02Z</dcterms:created>
  <dc:creator>jobert</dc:creator>
  <dc:description/>
  <dc:language>en-US</dc:language>
  <cp:lastModifiedBy>jobert</cp:lastModifiedBy>
  <dcterms:modified xsi:type="dcterms:W3CDTF">2012-10-24T14:07:10Z</dcterms:modified>
  <cp:revision>6</cp:revision>
  <dc:subject/>
  <dc:title>The Enlightenment </dc:title>
</cp:coreProperties>
</file>